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416-Patrick%20Bernhardt-New%20Hopi%20Eagle%20Dance.wav" ContentType="audio/x-wav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6A7-A276-4B0A-865E-56D3CE5C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554-8BBC-4B88-8C5B-33D0BB39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A29-230D-4FB6-9C4F-5B3D9BE3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961-82C7-4CBC-8ED4-9362AF64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72B-108A-461B-8617-32C05248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E08-94DC-4E0A-8544-C25E90C2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552-ADC9-422C-9E5C-D70DAB09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88A-E28C-4ABB-94EC-9501529C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B45-FE63-4A1B-89FF-C57EBCF8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E89-1560-4F50-B5D4-36021878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E73-1AC2-4615-879F-CBFB4176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72D-5884-4A24-8325-F1E76022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c6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12F2-7ACC-403D-8B01-B86383C8015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416-Patrick%20Bernhardt-New%20Hopi%20Eagle%20Danc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TEN DRUHÝ V NÁS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2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7" name="Picture 5" descr="ten druhy v nas ,02"/>
          <p:cNvPicPr/>
          <p:nvPr/>
        </p:nvPicPr>
        <p:blipFill>
          <a:blip r:embed="rId1">
            <a:lum bright="6000"/>
          </a:blip>
          <a:srcRect l="1647" t="1244" r="2086" b="1786"/>
          <a:stretch/>
        </p:blipFill>
        <p:spPr>
          <a:xfrm>
            <a:off x="2482920" y="260280"/>
            <a:ext cx="4176720" cy="568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CHODCI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4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9" descr="Chodci,04,volně k Alter i Překrývání"/>
          <p:cNvPicPr/>
          <p:nvPr/>
        </p:nvPicPr>
        <p:blipFill>
          <a:blip r:embed="rId1">
            <a:lum bright="-6000"/>
          </a:blip>
          <a:srcRect l="6580" t="0" r="0" b="576"/>
          <a:stretch/>
        </p:blipFill>
        <p:spPr>
          <a:xfrm>
            <a:off x="2536920" y="333360"/>
            <a:ext cx="4051080" cy="568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Jablko zakázané ovoce 05 (2)"/>
          <p:cNvPicPr/>
          <p:nvPr/>
        </p:nvPicPr>
        <p:blipFill>
          <a:blip r:embed="rId1"/>
          <a:stretch/>
        </p:blipFill>
        <p:spPr>
          <a:xfrm>
            <a:off x="1187280" y="189000"/>
            <a:ext cx="6769440" cy="5869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JABLKO, ZAKÁZANÉ OVOCE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5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9000">
    <p:wipe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77777"/>
                </a:solidFill>
                <a:latin typeface="Arial"/>
              </a:rPr>
              <a:t>P Ř E K R Ý V Á N Í   S Y M B O L Ů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-4586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77777"/>
                </a:solidFill>
                <a:latin typeface="Arial"/>
              </a:rPr>
              <a:t>z cykl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4000">
    <p:wipe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rekr"/>
          <p:cNvPicPr/>
          <p:nvPr/>
        </p:nvPicPr>
        <p:blipFill>
          <a:blip r:embed="rId1">
            <a:lum bright="-6000"/>
          </a:blip>
          <a:srcRect l="5226" t="632" r="1248" b="735"/>
          <a:stretch/>
        </p:blipFill>
        <p:spPr>
          <a:xfrm>
            <a:off x="1332000" y="324000"/>
            <a:ext cx="6480000" cy="5659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PRAKRAJINA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4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9000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Kejklíř a ubývající světlo"/>
          <p:cNvPicPr/>
          <p:nvPr/>
        </p:nvPicPr>
        <p:blipFill>
          <a:blip r:embed="rId1"/>
          <a:srcRect l="3564" t="1233" r="0" b="0"/>
          <a:stretch/>
        </p:blipFill>
        <p:spPr>
          <a:xfrm>
            <a:off x="2610000" y="260280"/>
            <a:ext cx="3906720" cy="5734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0" y="5904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KEJKLÍŘ A UBÝVAJÍCÍ SVĚTLO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4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9000"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MAŇA LISA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6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" name="Picture 5" descr="MANA LISA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56865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ČTVERATÉ KUKÁTKO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6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Picture 5" descr="Čtveraté kukátko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2700360" y="260280"/>
            <a:ext cx="3776760" cy="56898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3" descr="zdena-foto atelier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49402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Arial"/>
              </a:rPr>
              <a:t>dagrpet@seznam.cz</a:t>
            </a:r>
            <a:br>
              <a:rPr sz="1600"/>
            </a:b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2 0 0 6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2492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Arial"/>
              </a:rPr>
              <a:t>fotografie</a:t>
            </a:r>
            <a:br>
              <a:rPr sz="1600"/>
            </a:b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Z D E N A   H Ö H M O V Á</a:t>
            </a:r>
            <a:r>
              <a:rPr b="0" lang="cs-CZ" sz="1800" spc="-1" strike="noStrike">
                <a:solidFill>
                  <a:srgbClr val="c0c0c0"/>
                </a:solidFill>
                <a:latin typeface="Arial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4149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Arial"/>
              </a:rPr>
              <a:t>vyrobila</a:t>
            </a:r>
            <a:br>
              <a:rPr sz="1600"/>
            </a:b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D A G M A R   P E T R Á Š K O V Á</a:t>
            </a:r>
            <a:r>
              <a:rPr b="0" lang="cs-CZ" sz="1600" spc="-1" strike="noStrike">
                <a:solidFill>
                  <a:srgbClr val="dbd7c3"/>
                </a:solidFill>
                <a:latin typeface="Arial"/>
              </a:rPr>
              <a:t>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278136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K A R E L   Š A B A T A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3068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J I Ř Í   H O R Á K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8" nodeType="after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6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5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7" nodeType="afterEffect" fill="hold" presetClass="exit" presetID="50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rekr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4720" y="44280"/>
            <a:ext cx="4535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ENA HÖHM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-177840" y="547560"/>
            <a:ext cx="9070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-181080" y="549360"/>
            <a:ext cx="9070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252360" y="549360"/>
            <a:ext cx="907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250920" y="549360"/>
            <a:ext cx="9070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-179280" y="549360"/>
            <a:ext cx="907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-181080" y="549360"/>
            <a:ext cx="907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-181080" y="549360"/>
            <a:ext cx="907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Century Gothic"/>
              </a:rPr>
              <a:t>P Ř E K R Ý V Á N Í   S Y M B O L Ů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" nodeType="after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zdena (2)"/>
          <p:cNvPicPr/>
          <p:nvPr/>
        </p:nvPicPr>
        <p:blipFill>
          <a:blip r:embed="rId1"/>
          <a:stretch/>
        </p:blipFill>
        <p:spPr>
          <a:xfrm>
            <a:off x="-4680" y="-142920"/>
            <a:ext cx="9144000" cy="7588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23720" y="27000"/>
            <a:ext cx="3214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404040"/>
                </a:solidFill>
                <a:latin typeface="Arial"/>
              </a:rPr>
              <a:t>Z D E N A   H Ö H M O V Á</a:t>
            </a:r>
            <a:br>
              <a:rPr sz="1700"/>
            </a:b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2" name="Picture 8" descr="zdena (2)"/>
          <p:cNvPicPr/>
          <p:nvPr/>
        </p:nvPicPr>
        <p:blipFill>
          <a:blip r:embed="rId2"/>
          <a:stretch/>
        </p:blipFill>
        <p:spPr>
          <a:xfrm>
            <a:off x="5281560" y="3919680"/>
            <a:ext cx="4219560" cy="3536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423720" y="3027240"/>
            <a:ext cx="57866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Je členkou Sdružení Q a Sdružení pražských malířů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23720" y="598320"/>
            <a:ext cx="29289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narozena 1955 v Brně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23720" y="1027080"/>
            <a:ext cx="6858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Je absolventkou Střední uměleckoprůmyslové školy v Brně 1971-75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a Akademie výtvarných umění v Praze 1975-81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26960" y="1670040"/>
            <a:ext cx="75693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Po ukončení studií působila na katedře výtvarné výchovy Pedagogické fakulty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Univerzity J.E.Purkyně v Brně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1987-88 jako odborná asistentka pro kresbu a malbu ve sklářském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ateliéru Vysoké školy uměleckoprůmyslové v Praz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26960" y="2813040"/>
            <a:ext cx="864072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Od roku 1988 působí ve svobodném povolání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23720" y="312840"/>
            <a:ext cx="3214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malířka, grafička, ilustrátorka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30000"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ltn_560_15"/>
          <p:cNvPicPr/>
          <p:nvPr/>
        </p:nvPicPr>
        <p:blipFill>
          <a:blip r:embed="rId1"/>
          <a:stretch/>
        </p:blipFill>
        <p:spPr>
          <a:xfrm>
            <a:off x="0" y="0"/>
            <a:ext cx="9396360" cy="7031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Autorka od roku 1981 samostatně vystavuje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a zúčastňuje se řady společných výstav, přehlídek, aukčních salonů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a sympozií u nás i v zahranič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95280" y="2838600"/>
            <a:ext cx="8686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Její díla jsou zastoupena ve sbírkách :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Národní galerie v Praze, Muzeum města Brna, Moravská galerie v Brně,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Galerie výtvarného umění v Hodoníně, Oblastní galerie Vysočiny v Jihlavě,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Národní památkový ústav v Brně, Balneologické muzeum v Piešťanech,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Galerie Affiche d‘Art v Kaiserslautern, Galerie Spaarkrediet, Bruggy,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Slovenská výtvarná unie v Bratislavě a v dalších soukromých sbírkách </a:t>
            </a:r>
            <a:br>
              <a:rPr sz="1600"/>
            </a:br>
            <a:r>
              <a:rPr b="0" lang="cs-CZ" sz="1600" spc="-1" strike="noStrike">
                <a:solidFill>
                  <a:srgbClr val="404040"/>
                </a:solidFill>
                <a:latin typeface="Arial"/>
              </a:rPr>
              <a:t>doma i ve světě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3000"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77777"/>
                </a:solidFill>
                <a:latin typeface="Arial"/>
              </a:rPr>
              <a:t>V E J C E,   L E B K Y,   K A M E N Y   A   M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-4586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77777"/>
                </a:solidFill>
                <a:latin typeface="Arial"/>
              </a:rPr>
              <a:t>z cykl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400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pánek,01"/>
          <p:cNvPicPr/>
          <p:nvPr/>
        </p:nvPicPr>
        <p:blipFill>
          <a:blip r:embed="rId1"/>
          <a:stretch/>
        </p:blipFill>
        <p:spPr>
          <a:xfrm>
            <a:off x="1332000" y="260280"/>
            <a:ext cx="6446880" cy="5767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SPÁNEK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1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9000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NAPOLEON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1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" name="Picture 5" descr="Napoleon,01"/>
          <p:cNvPicPr/>
          <p:nvPr/>
        </p:nvPicPr>
        <p:blipFill>
          <a:blip r:embed="rId1"/>
          <a:stretch/>
        </p:blipFill>
        <p:spPr>
          <a:xfrm>
            <a:off x="1042920" y="404640"/>
            <a:ext cx="6983640" cy="55659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BÍLÝ KÁMEN</a:t>
            </a:r>
            <a:br>
              <a:rPr sz="1400"/>
            </a:br>
            <a:r>
              <a:rPr b="0" lang="cs-CZ" sz="1400" spc="-1" strike="noStrike">
                <a:solidFill>
                  <a:srgbClr val="777777"/>
                </a:solidFill>
                <a:latin typeface="Arial"/>
              </a:rPr>
              <a:t>2002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5" descr="Bílý kámen,02"/>
          <p:cNvPicPr/>
          <p:nvPr/>
        </p:nvPicPr>
        <p:blipFill>
          <a:blip r:embed="rId1"/>
          <a:srcRect l="0" t="1407" r="0" b="1677"/>
          <a:stretch/>
        </p:blipFill>
        <p:spPr>
          <a:xfrm>
            <a:off x="1332000" y="549360"/>
            <a:ext cx="6480000" cy="53481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77777"/>
                </a:solidFill>
                <a:latin typeface="Arial"/>
              </a:rPr>
              <a:t>A L T E R   E G O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-4586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77777"/>
                </a:solidFill>
                <a:latin typeface="Arial"/>
              </a:rPr>
              <a:t>z cykl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3000"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11:29:26Z</dcterms:created>
  <dc:creator>Dagmar Petraskova</dc:creator>
  <dc:description/>
  <dc:language>en-US</dc:language>
  <cp:lastModifiedBy>Dáša</cp:lastModifiedBy>
  <dcterms:modified xsi:type="dcterms:W3CDTF">2008-03-30T15:19:14Z</dcterms:modified>
  <cp:revision>89</cp:revision>
  <dc:subject/>
  <dc:title>Zdena Hohmova</dc:title>
</cp:coreProperties>
</file>